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DF379-9725-4894-98B8-19FD993EC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A4001-C23A-44D9-829B-B57346FED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EA519-42ED-4AE8-9D40-51AFF9323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FF4E2-D822-4E74-9F7F-5D4324C7E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AB845-84A9-4A2D-8C69-304F85EA9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945D0-CA9A-48F8-8FBD-33A12689D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10D01-0CBB-42A8-B8A9-90BC5DD18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6DCCA-0060-40D4-9AE7-87D2B049C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D203C-E22F-44E2-88D9-7FF66EECB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A3C7D-74B8-4EE9-B66C-E79A93308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B6585-08F6-4459-96FE-E84D5CC1A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545CF-7DBE-4B75-8457-237FFFCDA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89D2C-3030-4CA6-BAB4-73EA379B4C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5360" y="838080"/>
            <a:ext cx="491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’re in NY and are trying to flag down a ca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hance of catching a cab on your street i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% per minute of standing there.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324480" y="228600"/>
            <a:ext cx="2619360" cy="17431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00760" y="3048120"/>
            <a:ext cx="80222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is the probability that you will still be there aft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 1 minute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i. 2 min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) What is the probability that you caught a cab in the 2nd minut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) What is the probability that you didn’t catch a cab in the 2nd minut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762120" y="0"/>
            <a:ext cx="657864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84320" y="533520"/>
            <a:ext cx="8959680" cy="17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219320" y="25146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219320" y="1371240"/>
            <a:ext cx="129528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522160" y="1066680"/>
            <a:ext cx="418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598120" y="2300400"/>
            <a:ext cx="406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50960" y="1782720"/>
            <a:ext cx="1014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(C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 = 0.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560600" y="2590920"/>
            <a:ext cx="10065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(S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 = 0.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987640" y="25146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987640" y="1371240"/>
            <a:ext cx="129528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290480" y="1066680"/>
            <a:ext cx="418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366440" y="2300400"/>
            <a:ext cx="406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447280" y="1752480"/>
            <a:ext cx="12045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(C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|S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 = 0.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333240" y="2590920"/>
            <a:ext cx="12823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(S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| S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 = 0.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429800" y="1981080"/>
            <a:ext cx="11998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P(S</a:t>
            </a:r>
            <a:r>
              <a:rPr b="0" lang="en-US" sz="1200" spc="-1" strike="noStrike" baseline="-25000">
                <a:solidFill>
                  <a:srgbClr val="333399"/>
                </a:solidFill>
                <a:latin typeface="Arial"/>
              </a:rPr>
              <a:t>1</a:t>
            </a: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 S</a:t>
            </a:r>
            <a:r>
              <a:rPr b="0" lang="en-US" sz="12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) = 9/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422240" y="762120"/>
            <a:ext cx="12074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P(S</a:t>
            </a:r>
            <a:r>
              <a:rPr b="0" lang="en-US" sz="1200" spc="-1" strike="noStrike" baseline="-25000">
                <a:solidFill>
                  <a:srgbClr val="333399"/>
                </a:solidFill>
                <a:latin typeface="Arial"/>
              </a:rPr>
              <a:t>1</a:t>
            </a: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 C</a:t>
            </a:r>
            <a:r>
              <a:rPr b="0" lang="en-US" sz="12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) = 3/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747880" y="487440"/>
            <a:ext cx="1014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P(C</a:t>
            </a:r>
            <a:r>
              <a:rPr b="0" lang="en-US" sz="1200" spc="-1" strike="noStrike" baseline="-25000">
                <a:solidFill>
                  <a:srgbClr val="333399"/>
                </a:solidFill>
                <a:latin typeface="Arial"/>
              </a:rPr>
              <a:t>1</a:t>
            </a: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) = 4/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33520" y="3792600"/>
            <a:ext cx="8610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is the probability that you will still be there aft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 1 minute?  </a:t>
            </a:r>
            <a:r>
              <a:rPr b="0" lang="en-US" sz="1800" spc="-1" strike="noStrike">
                <a:solidFill>
                  <a:srgbClr val="990000"/>
                </a:solidFill>
                <a:latin typeface="Arial"/>
              </a:rPr>
              <a:t>3/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i. 2 minutes? </a:t>
            </a:r>
            <a:r>
              <a:rPr b="0" lang="en-US" sz="1800" spc="-1" strike="noStrike">
                <a:solidFill>
                  <a:srgbClr val="990000"/>
                </a:solidFill>
                <a:latin typeface="Arial"/>
              </a:rPr>
              <a:t>9/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) What is the probability that you caught a cab in the 2nd minute? </a:t>
            </a:r>
            <a:r>
              <a:rPr b="0" lang="en-US" sz="1800" spc="-1" strike="noStrike">
                <a:solidFill>
                  <a:srgbClr val="990000"/>
                </a:solidFill>
                <a:latin typeface="Arial"/>
              </a:rPr>
              <a:t>3/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) What is the probability that you didn’t catch a cab in the 2nd minute? </a:t>
            </a:r>
            <a:r>
              <a:rPr b="0" lang="en-US" sz="1800" spc="-1" strike="noStrike">
                <a:solidFill>
                  <a:srgbClr val="990000"/>
                </a:solidFill>
                <a:latin typeface="Arial"/>
              </a:rPr>
              <a:t>13/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800600" y="25146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748600" y="762120"/>
            <a:ext cx="9288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(C</a:t>
            </a:r>
            <a:r>
              <a:rPr b="0" lang="en-US" sz="1200" spc="-1" strike="noStrike" baseline="-25000">
                <a:solidFill>
                  <a:srgbClr val="cc0000"/>
                </a:solidFill>
                <a:latin typeface="Arial"/>
              </a:rPr>
              <a:t>1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) = 1/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578680" y="3002040"/>
            <a:ext cx="921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(S</a:t>
            </a:r>
            <a:r>
              <a:rPr b="0" lang="en-US" sz="1200" spc="-1" strike="noStrike" baseline="-25000">
                <a:solidFill>
                  <a:srgbClr val="cc0000"/>
                </a:solidFill>
                <a:latin typeface="Arial"/>
              </a:rPr>
              <a:t>1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) = 3/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4572000" y="304920"/>
            <a:ext cx="4219560" cy="25812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380880" y="609480"/>
            <a:ext cx="4038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Jones family has 2 parents, 4 kids, 2 cats, 3 dogs. 5 people/animals go on a walk. It is known that at least 1 parent went and at least 1 pet went. How many different scenarios are there for who wen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2208240" y="1523880"/>
            <a:ext cx="160164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9880" y="1523880"/>
            <a:ext cx="228600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208240" y="2209680"/>
            <a:ext cx="160164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809880" y="2209680"/>
            <a:ext cx="22860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887840" y="457200"/>
            <a:ext cx="529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,P2   K1,K2,K3,K4   C1,C2,D1,D2,D3  (11 tota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441160" y="1081080"/>
            <a:ext cx="115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 anim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117320" y="1066680"/>
            <a:ext cx="129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0 anim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846720" y="167652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 pa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63920" y="2362320"/>
            <a:ext cx="126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0 pa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09120" y="3276720"/>
            <a:ext cx="518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 1: total – [(0P,0A) + (&gt;0P,0A) + (0P,&gt;0A)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5160" y="3595680"/>
            <a:ext cx="635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c5 – [0 + 6c5 + 9c5]     =     462 – [0 + 6 + 126]      =     3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39280" y="4191120"/>
            <a:ext cx="563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 2:  (&gt;0P, &gt;0A) 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P,4A,0K) + (1P,3A,1K) + (1P,2A,2K) + (1P,1A,3K) 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2P,3A,0K) + (2P,2A,1K) + (2P,1A,2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951440" y="2209680"/>
            <a:ext cx="144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12400" y="2362320"/>
            <a:ext cx="101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par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961520" y="236232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pa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40000" y="5378400"/>
            <a:ext cx="810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2c1)*(5c4)*(4c0) + (2c1)*(5c3)*(4c1) + (2c1)*(5c2)*(4c2) + (2c1)*(5c1)*(4c3) 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2c2)*(5c3)*(4c0) + (2c2)*(5c2)*(4c1) + (2c2)*(5c1)*(4c2) =   3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1924200"/>
            <a:ext cx="9144000" cy="41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228600" y="609480"/>
            <a:ext cx="8458200" cy="463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1447920" y="0"/>
            <a:ext cx="6432480" cy="670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304920" y="990720"/>
            <a:ext cx="8534160" cy="47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143000" y="4648320"/>
            <a:ext cx="7010280" cy="19508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762120" y="152280"/>
            <a:ext cx="6476760" cy="42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4T00:54:30Z</dcterms:created>
  <dc:creator>Ben</dc:creator>
  <dc:description/>
  <dc:language>en-US</dc:language>
  <cp:lastModifiedBy>Ben</cp:lastModifiedBy>
  <dcterms:modified xsi:type="dcterms:W3CDTF">2010-11-24T06:29:23Z</dcterms:modified>
  <cp:revision>56</cp:revision>
  <dc:subject/>
  <dc:title>Slide 1</dc:title>
</cp:coreProperties>
</file>